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8F3B-DD24-42DD-8581-C67717EBF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AEB8-239D-40CD-8E7C-BF0B00000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6B8C-3DAD-4BD1-B133-72AC24C3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242B-E832-4D8C-87A2-2C056F845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7 The basis of the membrane potent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4F08-3E68-47E8-94CB-B50163BC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125B-14D6-422B-9ADF-A5BB57701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AF40-D5D0-4904-B50E-F5ED8A473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4935-885D-4BC8-9F61-D580AA1F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10 Graded potentials and an action potential in a neu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80A7-3D03-4054-B7B4-6F4C8B1E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2DE0-6A83-43D0-B6EF-0BEFEEEA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FC23-B51C-46C4-8874-0ED44578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5D7B-6F6B-4BBD-B025-877AEEC8F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6850-7CB0-4578-A095-5F7DAC03A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11 The role of voltage-gated ion channels in the generation of an action potent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8CA4-F5DC-4204-ACCB-B68B41CC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853B-3F38-4592-BC3E-3A0C08A96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70A9-96E2-428B-A430-BF8AD17A5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12 Conduction of an action potent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F9C4-9343-4687-B43A-06AF312B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BBA6-E6F8-46F4-B4CA-9734C5BC7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17E6-20BC-45ED-A2ED-E365BA0A4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606C-FC86-4087-B61F-68A1DD0FA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13 Schwann cells and the myelin sh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A1C7-342B-4725-BDB6-DE96335BC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F396-4915-45E3-B1FD-554B7B228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0625-0075-4302-85AE-A759F40AA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E62C-82FF-4BFA-BB6D-4D9336FD4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1644-F376-417A-9C6E-C13ED27D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F29B-93B5-4069-9954-52F9D441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15 A chemical syn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B720-0CE1-4F31-9E60-2A9FEC0B4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9EAA-D089-4AD4-9D20-2ED9F0C9F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3 Summary of information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5EC6-8D7D-4329-AC64-A70CF309E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E79B-9842-4148-BF62-937DB4F22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3A5B-9BFA-4CD9-8FC1-C6BB53901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4 Neuron structure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CE66-3FD4-402C-A9D2-614CE75A0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5115-1D0D-4EBB-808D-F15E28A83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0637-68E6-4950-9EED-073C07E70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F161-B095-46EE-B852-2E8352AD0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4EDE-8EFD-46A9-AA27-84A811AE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48.1 Ion Concentrations Inside and Outside of Mammalian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FEF-E0D4-4291-815C-9D3B9F71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1F9-EC83-4EF4-AE53-1B4C5BAC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ACB-3FAB-45C5-931E-344CB4D3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975-4DE8-438E-81A1-A6677B4B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E425-BED1-4F63-97D3-03F739EF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5427-D018-4761-8C79-A5CE69E0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621A-8278-425D-96D6-FCC954B1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AC8A-EC76-40BD-B775-9011933E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982A-A140-424F-AA30-FEDBA64E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CB00-953D-42C0-97AE-89437796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F457-1D9F-4821-8646-60FAF777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CAA-9CDF-4A27-9C84-D8BB4472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42C3-C66D-4B98-BDD1-DDED57D4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5147-BA12-4559-B645-7EE920D5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E9A-40C1-429C-98DE-A22A9118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F21D-5E77-4C88-B5F2-6EC78765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32DA-E6EE-40F0-AA63-E1409543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9BC-C181-4118-8D6D-EEB55EB9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6AC-41AA-4C84-83A3-44C20506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115-6079-4E41-8AFA-A4E9974D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F75-D62B-47FF-A7F0-A3C31B23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CEA-865A-427F-A643-73B040D2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35D-1111-4B38-8497-5F3EC189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D36-BF6C-4DF0-8A48-92CC30E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0D21-E1B1-47F3-905E-5D820DB81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b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dking\Desktop\55823Reece_Marketing_Cover\55823Reece9e_webdev.jpg"/>
          <p:cNvPicPr/>
          <p:nvPr/>
        </p:nvPicPr>
        <p:blipFill>
          <a:blip r:embed="rId2"/>
          <a:srcRect l="15728" t="38258" r="-249" b="23917"/>
          <a:stretch/>
        </p:blipFill>
        <p:spPr>
          <a:xfrm>
            <a:off x="0" y="1512720"/>
            <a:ext cx="917100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440" y="0"/>
            <a:ext cx="9145800" cy="7632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AMPBELL BIOLOGY, NIN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B. Reece, Lisa A. Urry, Michael L. Cain, Steven A. Wasserman, Peter V. Minorsky, Robert B.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152280" y="660384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11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705720" y="5562720"/>
            <a:ext cx="236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ctures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rin Bar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athleen Fitzpat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200400" y="6108840"/>
            <a:ext cx="290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04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F712-6A4A-49E7-8AAB-B6DB8FD02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9160" y="53820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07600"/>
            <a:ext cx="8153280" cy="31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s process information in three stages: sensory input, integration, and motor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erve cells that transfer information with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 use two types of signals to communicate: electrical signals (long-distance) and chemical signals (short-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9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8" descr="48_07MembranePotential-U"/>
          <p:cNvPicPr/>
          <p:nvPr/>
        </p:nvPicPr>
        <p:blipFill>
          <a:blip r:embed="rId1"/>
          <a:stretch/>
        </p:blipFill>
        <p:spPr>
          <a:xfrm>
            <a:off x="425520" y="136440"/>
            <a:ext cx="8292960" cy="6585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76280" y="706320"/>
            <a:ext cx="4744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1330200" y="952560"/>
            <a:ext cx="435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800" spc="-1" strike="noStrike" baseline="34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1349280" y="1316160"/>
            <a:ext cx="435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 baseline="34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349280" y="1819440"/>
            <a:ext cx="120168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1343160" y="3005280"/>
            <a:ext cx="1201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355760" y="4075200"/>
            <a:ext cx="936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2719440" y="2527200"/>
            <a:ext cx="10573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SID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12960" y="6000840"/>
            <a:ext cx="1057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ID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on potentials are the signals conducted by ax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912680"/>
            <a:ext cx="838188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membrane potential occur because neuron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ted ion chann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pen or close in response to stim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80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1366560"/>
            <a:ext cx="80769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polarization shifts the membrane potential sufficiently, it results in a massive change in membrane voltage called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otentials have a constant magnitude, are all-or-none, and transmit signals over lo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ise because some ion channel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-g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pening or closing when the membrane potential passes a certai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85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42560" y="53820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olariz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1" descr="48_10cGradedPotentials-U"/>
          <p:cNvPicPr/>
          <p:nvPr/>
        </p:nvPicPr>
        <p:blipFill>
          <a:blip r:embed="rId1"/>
          <a:stretch/>
        </p:blipFill>
        <p:spPr>
          <a:xfrm>
            <a:off x="297000" y="212760"/>
            <a:ext cx="8548560" cy="6584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4"/>
          <p:cNvSpPr/>
          <p:nvPr/>
        </p:nvSpPr>
        <p:spPr>
          <a:xfrm>
            <a:off x="4640400" y="347760"/>
            <a:ext cx="3808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rong depolarizing stim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5"/>
          <p:cNvSpPr/>
          <p:nvPr/>
        </p:nvSpPr>
        <p:spPr>
          <a:xfrm>
            <a:off x="4843440" y="3873600"/>
            <a:ext cx="13874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6"/>
          <p:cNvSpPr/>
          <p:nvPr/>
        </p:nvSpPr>
        <p:spPr>
          <a:xfrm>
            <a:off x="4844880" y="4827600"/>
            <a:ext cx="1203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ting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8"/>
          <p:cNvSpPr/>
          <p:nvPr/>
        </p:nvSpPr>
        <p:spPr>
          <a:xfrm>
            <a:off x="6257880" y="6215040"/>
            <a:ext cx="1665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9"/>
          <p:cNvSpPr/>
          <p:nvPr/>
        </p:nvSpPr>
        <p:spPr>
          <a:xfrm>
            <a:off x="4194000" y="790560"/>
            <a:ext cx="600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0"/>
          <p:cNvSpPr/>
          <p:nvPr/>
        </p:nvSpPr>
        <p:spPr>
          <a:xfrm>
            <a:off x="4475160" y="2386080"/>
            <a:ext cx="2779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1"/>
          <p:cNvSpPr/>
          <p:nvPr/>
        </p:nvSpPr>
        <p:spPr>
          <a:xfrm>
            <a:off x="4186080" y="4000680"/>
            <a:ext cx="600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2"/>
          <p:cNvSpPr/>
          <p:nvPr/>
        </p:nvSpPr>
        <p:spPr>
          <a:xfrm>
            <a:off x="4044960" y="5607000"/>
            <a:ext cx="600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3"/>
          <p:cNvSpPr/>
          <p:nvPr/>
        </p:nvSpPr>
        <p:spPr>
          <a:xfrm>
            <a:off x="6199200" y="58993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4"/>
          <p:cNvSpPr/>
          <p:nvPr/>
        </p:nvSpPr>
        <p:spPr>
          <a:xfrm>
            <a:off x="5827680" y="5892840"/>
            <a:ext cx="184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5"/>
          <p:cNvSpPr/>
          <p:nvPr/>
        </p:nvSpPr>
        <p:spPr>
          <a:xfrm>
            <a:off x="6581880" y="58993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6"/>
          <p:cNvSpPr/>
          <p:nvPr/>
        </p:nvSpPr>
        <p:spPr>
          <a:xfrm>
            <a:off x="6945480" y="5892840"/>
            <a:ext cx="183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7"/>
          <p:cNvSpPr/>
          <p:nvPr/>
        </p:nvSpPr>
        <p:spPr>
          <a:xfrm>
            <a:off x="7337520" y="5897520"/>
            <a:ext cx="183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8"/>
          <p:cNvSpPr/>
          <p:nvPr/>
        </p:nvSpPr>
        <p:spPr>
          <a:xfrm>
            <a:off x="7713720" y="5892840"/>
            <a:ext cx="183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9"/>
          <p:cNvSpPr/>
          <p:nvPr/>
        </p:nvSpPr>
        <p:spPr>
          <a:xfrm rot="16200000">
            <a:off x="2351160" y="3125520"/>
            <a:ext cx="32414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mbrane potential (m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0"/>
          <p:cNvSpPr/>
          <p:nvPr/>
        </p:nvSpPr>
        <p:spPr>
          <a:xfrm rot="16200000">
            <a:off x="6361920" y="189720"/>
            <a:ext cx="192240" cy="1114560"/>
          </a:xfrm>
          <a:custGeom>
            <a:avLst/>
            <a:gdLst>
              <a:gd name="textAreaLeft" fmla="*/ 0 w 192240"/>
              <a:gd name="textAreaRight" fmla="*/ 69480 w 19224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4"/>
          <p:cNvSpPr/>
          <p:nvPr/>
        </p:nvSpPr>
        <p:spPr>
          <a:xfrm>
            <a:off x="8064360" y="5896080"/>
            <a:ext cx="184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95"/>
          <p:cNvGrpSpPr/>
          <p:nvPr/>
        </p:nvGrpSpPr>
        <p:grpSpPr>
          <a:xfrm>
            <a:off x="341280" y="230040"/>
            <a:ext cx="3924360" cy="1192320"/>
            <a:chOff x="341280" y="230040"/>
            <a:chExt cx="3924360" cy="1192320"/>
          </a:xfrm>
        </p:grpSpPr>
        <p:sp>
          <p:nvSpPr>
            <p:cNvPr id="208" name="Text Box 96"/>
            <p:cNvSpPr/>
            <p:nvPr/>
          </p:nvSpPr>
          <p:spPr>
            <a:xfrm>
              <a:off x="341280" y="233280"/>
              <a:ext cx="347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7"/>
            <p:cNvSpPr/>
            <p:nvPr/>
          </p:nvSpPr>
          <p:spPr>
            <a:xfrm>
              <a:off x="725400" y="230040"/>
              <a:ext cx="3540240" cy="11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ction potential</a:t>
              </a:r>
              <a:br>
                <a:rPr sz="2100"/>
              </a:b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triggered by a</a:t>
              </a:r>
              <a:br>
                <a:rPr sz="2100"/>
              </a:b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epolarization that</a:t>
              </a:r>
              <a:br>
                <a:rPr sz="2100"/>
              </a:b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eaches the threshol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Line 98"/>
          <p:cNvSpPr/>
          <p:nvPr/>
        </p:nvSpPr>
        <p:spPr>
          <a:xfrm>
            <a:off x="5819760" y="4137120"/>
            <a:ext cx="31752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9"/>
          <p:cNvSpPr/>
          <p:nvPr/>
        </p:nvSpPr>
        <p:spPr>
          <a:xfrm flipH="1">
            <a:off x="7223040" y="1108080"/>
            <a:ext cx="13176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7391520" y="973080"/>
            <a:ext cx="1203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tio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10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7080" y="792000"/>
            <a:ext cx="8788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tion of Action Potenti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97200"/>
            <a:ext cx="8229600" cy="26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on potential can be considered as a series of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esting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12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voltage-gated sodium (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hannels are closed; most of the voltage-gated potassium (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hannels are also clo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17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3160" y="1356840"/>
            <a:ext cx="830556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action potential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0644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tage-gated 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nels open first and 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lows into the 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0644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ising ph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 threshold is crossed, and the membrane potential incre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0644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alling ph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oltage-gated 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nels become inactivated; voltage-gated 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nels open, and 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lows out of the 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22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8077320" cy="18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759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During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undersho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embrane permeability to 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t first higher than at rest, then voltage-gated 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nels close and resting potential is resto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277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considered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polar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fractory perio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an action potential, a second action potential cannot be initiated (due to hyperpolariz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27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9" descr="48_11_ActionPotential_5-U"/>
          <p:cNvPicPr/>
          <p:nvPr/>
        </p:nvPicPr>
        <p:blipFill>
          <a:blip r:embed="rId1"/>
          <a:stretch/>
        </p:blipFill>
        <p:spPr>
          <a:xfrm>
            <a:off x="297000" y="136440"/>
            <a:ext cx="8548560" cy="6585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407880" y="4568760"/>
            <a:ext cx="1652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14360" y="5780160"/>
            <a:ext cx="14288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825480" y="6018120"/>
            <a:ext cx="1427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activation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09720" y="4581360"/>
            <a:ext cx="72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diu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589200" y="4587840"/>
            <a:ext cx="949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assiu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4991040" y="2220840"/>
            <a:ext cx="72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4964040" y="3144960"/>
            <a:ext cx="8971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149800" y="4151160"/>
            <a:ext cx="1465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ting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4937040" y="4403880"/>
            <a:ext cx="435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 rot="16200000">
            <a:off x="3548880" y="3053520"/>
            <a:ext cx="1704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rane potenti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565520" y="2023920"/>
            <a:ext cx="322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4457880" y="4273560"/>
            <a:ext cx="4158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4556160" y="3551400"/>
            <a:ext cx="323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4748040" y="2805120"/>
            <a:ext cx="152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4651200" y="615960"/>
            <a:ext cx="322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4659480" y="861840"/>
            <a:ext cx="32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4419720" y="372960"/>
            <a:ext cx="32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5343480" y="3346560"/>
            <a:ext cx="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5727600" y="3584520"/>
            <a:ext cx="39960" cy="238320"/>
          </a:xfrm>
          <a:prstGeom prst="line">
            <a:avLst/>
          </a:prstGeom>
          <a:ln w="12600">
            <a:solidFill>
              <a:srgbClr val="0072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3"/>
          <p:cNvSpPr/>
          <p:nvPr/>
        </p:nvSpPr>
        <p:spPr>
          <a:xfrm>
            <a:off x="4921200" y="4021200"/>
            <a:ext cx="19836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5397480" y="4497480"/>
            <a:ext cx="2235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 flipH="1">
            <a:off x="2606400" y="4960800"/>
            <a:ext cx="290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 flipH="1">
            <a:off x="3465360" y="4960800"/>
            <a:ext cx="317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 flipH="1">
            <a:off x="2261880" y="6019920"/>
            <a:ext cx="23796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0"/>
          <p:cNvGrpSpPr/>
          <p:nvPr/>
        </p:nvGrpSpPr>
        <p:grpSpPr>
          <a:xfrm>
            <a:off x="754200" y="4100400"/>
            <a:ext cx="210960" cy="212760"/>
            <a:chOff x="754200" y="4100400"/>
            <a:chExt cx="210960" cy="212760"/>
          </a:xfrm>
        </p:grpSpPr>
        <p:sp>
          <p:nvSpPr>
            <p:cNvPr id="256" name="Oval 28"/>
            <p:cNvSpPr/>
            <p:nvPr/>
          </p:nvSpPr>
          <p:spPr>
            <a:xfrm>
              <a:off x="754200" y="410040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811080" y="411300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1"/>
          <p:cNvGrpSpPr/>
          <p:nvPr/>
        </p:nvGrpSpPr>
        <p:grpSpPr>
          <a:xfrm>
            <a:off x="338040" y="6303960"/>
            <a:ext cx="211320" cy="212760"/>
            <a:chOff x="338040" y="6303960"/>
            <a:chExt cx="211320" cy="212760"/>
          </a:xfrm>
        </p:grpSpPr>
        <p:sp>
          <p:nvSpPr>
            <p:cNvPr id="259" name="Oval 32"/>
            <p:cNvSpPr/>
            <p:nvPr/>
          </p:nvSpPr>
          <p:spPr>
            <a:xfrm>
              <a:off x="338040" y="6303960"/>
              <a:ext cx="21132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3"/>
            <p:cNvSpPr/>
            <p:nvPr/>
          </p:nvSpPr>
          <p:spPr>
            <a:xfrm>
              <a:off x="395280" y="6316560"/>
              <a:ext cx="144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722160" y="2016000"/>
            <a:ext cx="211320" cy="212760"/>
            <a:chOff x="722160" y="2016000"/>
            <a:chExt cx="211320" cy="212760"/>
          </a:xfrm>
        </p:grpSpPr>
        <p:sp>
          <p:nvSpPr>
            <p:cNvPr id="262" name="Oval 35"/>
            <p:cNvSpPr/>
            <p:nvPr/>
          </p:nvSpPr>
          <p:spPr>
            <a:xfrm>
              <a:off x="722160" y="2016000"/>
              <a:ext cx="21132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6"/>
            <p:cNvSpPr/>
            <p:nvPr/>
          </p:nvSpPr>
          <p:spPr>
            <a:xfrm>
              <a:off x="779400" y="2028600"/>
              <a:ext cx="144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7"/>
          <p:cNvGrpSpPr/>
          <p:nvPr/>
        </p:nvGrpSpPr>
        <p:grpSpPr>
          <a:xfrm>
            <a:off x="5391000" y="1819440"/>
            <a:ext cx="211320" cy="212400"/>
            <a:chOff x="5391000" y="1819440"/>
            <a:chExt cx="211320" cy="212400"/>
          </a:xfrm>
        </p:grpSpPr>
        <p:sp>
          <p:nvSpPr>
            <p:cNvPr id="265" name="Oval 38"/>
            <p:cNvSpPr/>
            <p:nvPr/>
          </p:nvSpPr>
          <p:spPr>
            <a:xfrm>
              <a:off x="5391000" y="1819440"/>
              <a:ext cx="211320" cy="21240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5448240" y="1831680"/>
              <a:ext cx="1443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0"/>
          <p:cNvGrpSpPr/>
          <p:nvPr/>
        </p:nvGrpSpPr>
        <p:grpSpPr>
          <a:xfrm>
            <a:off x="5418000" y="6303960"/>
            <a:ext cx="211320" cy="212760"/>
            <a:chOff x="5418000" y="6303960"/>
            <a:chExt cx="211320" cy="212760"/>
          </a:xfrm>
        </p:grpSpPr>
        <p:sp>
          <p:nvSpPr>
            <p:cNvPr id="268" name="Oval 41"/>
            <p:cNvSpPr/>
            <p:nvPr/>
          </p:nvSpPr>
          <p:spPr>
            <a:xfrm>
              <a:off x="5418000" y="6303960"/>
              <a:ext cx="21132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5475240" y="6316560"/>
              <a:ext cx="144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3"/>
          <p:cNvGrpSpPr/>
          <p:nvPr/>
        </p:nvGrpSpPr>
        <p:grpSpPr>
          <a:xfrm>
            <a:off x="5178600" y="3763800"/>
            <a:ext cx="210960" cy="212760"/>
            <a:chOff x="5178600" y="3763800"/>
            <a:chExt cx="210960" cy="212760"/>
          </a:xfrm>
        </p:grpSpPr>
        <p:sp>
          <p:nvSpPr>
            <p:cNvPr id="271" name="Oval 44"/>
            <p:cNvSpPr/>
            <p:nvPr/>
          </p:nvSpPr>
          <p:spPr>
            <a:xfrm>
              <a:off x="5178600" y="376380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5"/>
            <p:cNvSpPr/>
            <p:nvPr/>
          </p:nvSpPr>
          <p:spPr>
            <a:xfrm>
              <a:off x="5235480" y="377640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6"/>
          <p:cNvGrpSpPr/>
          <p:nvPr/>
        </p:nvGrpSpPr>
        <p:grpSpPr>
          <a:xfrm>
            <a:off x="5589720" y="3379680"/>
            <a:ext cx="210960" cy="212760"/>
            <a:chOff x="5589720" y="3379680"/>
            <a:chExt cx="210960" cy="212760"/>
          </a:xfrm>
        </p:grpSpPr>
        <p:sp>
          <p:nvSpPr>
            <p:cNvPr id="274" name="Oval 47"/>
            <p:cNvSpPr/>
            <p:nvPr/>
          </p:nvSpPr>
          <p:spPr>
            <a:xfrm>
              <a:off x="5589720" y="337968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8"/>
            <p:cNvSpPr/>
            <p:nvPr/>
          </p:nvSpPr>
          <p:spPr>
            <a:xfrm>
              <a:off x="5646600" y="339228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9"/>
          <p:cNvGrpSpPr/>
          <p:nvPr/>
        </p:nvGrpSpPr>
        <p:grpSpPr>
          <a:xfrm>
            <a:off x="5775480" y="2692440"/>
            <a:ext cx="210960" cy="212760"/>
            <a:chOff x="5775480" y="2692440"/>
            <a:chExt cx="210960" cy="212760"/>
          </a:xfrm>
        </p:grpSpPr>
        <p:sp>
          <p:nvSpPr>
            <p:cNvPr id="277" name="Oval 50"/>
            <p:cNvSpPr/>
            <p:nvPr/>
          </p:nvSpPr>
          <p:spPr>
            <a:xfrm>
              <a:off x="5775480" y="269244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5832360" y="270504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2"/>
          <p:cNvGrpSpPr/>
          <p:nvPr/>
        </p:nvGrpSpPr>
        <p:grpSpPr>
          <a:xfrm>
            <a:off x="6356520" y="3168720"/>
            <a:ext cx="210960" cy="212760"/>
            <a:chOff x="6356520" y="3168720"/>
            <a:chExt cx="210960" cy="212760"/>
          </a:xfrm>
        </p:grpSpPr>
        <p:sp>
          <p:nvSpPr>
            <p:cNvPr id="280" name="Oval 53"/>
            <p:cNvSpPr/>
            <p:nvPr/>
          </p:nvSpPr>
          <p:spPr>
            <a:xfrm>
              <a:off x="6356520" y="316872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54"/>
            <p:cNvSpPr/>
            <p:nvPr/>
          </p:nvSpPr>
          <p:spPr>
            <a:xfrm>
              <a:off x="6413400" y="318132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5"/>
          <p:cNvGrpSpPr/>
          <p:nvPr/>
        </p:nvGrpSpPr>
        <p:grpSpPr>
          <a:xfrm>
            <a:off x="6421320" y="3830760"/>
            <a:ext cx="211320" cy="212760"/>
            <a:chOff x="6421320" y="3830760"/>
            <a:chExt cx="211320" cy="212760"/>
          </a:xfrm>
        </p:grpSpPr>
        <p:sp>
          <p:nvSpPr>
            <p:cNvPr id="283" name="Oval 56"/>
            <p:cNvSpPr/>
            <p:nvPr/>
          </p:nvSpPr>
          <p:spPr>
            <a:xfrm>
              <a:off x="6421320" y="3830760"/>
              <a:ext cx="21132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7"/>
            <p:cNvSpPr/>
            <p:nvPr/>
          </p:nvSpPr>
          <p:spPr>
            <a:xfrm>
              <a:off x="6478560" y="3843360"/>
              <a:ext cx="144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8"/>
          <p:cNvGrpSpPr/>
          <p:nvPr/>
        </p:nvGrpSpPr>
        <p:grpSpPr>
          <a:xfrm>
            <a:off x="7070760" y="3763800"/>
            <a:ext cx="210960" cy="212760"/>
            <a:chOff x="7070760" y="3763800"/>
            <a:chExt cx="210960" cy="212760"/>
          </a:xfrm>
        </p:grpSpPr>
        <p:sp>
          <p:nvSpPr>
            <p:cNvPr id="286" name="Oval 59"/>
            <p:cNvSpPr/>
            <p:nvPr/>
          </p:nvSpPr>
          <p:spPr>
            <a:xfrm>
              <a:off x="7070760" y="376380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60"/>
            <p:cNvSpPr/>
            <p:nvPr/>
          </p:nvSpPr>
          <p:spPr>
            <a:xfrm>
              <a:off x="7127640" y="377640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1"/>
          <p:cNvSpPr/>
          <p:nvPr/>
        </p:nvSpPr>
        <p:spPr>
          <a:xfrm>
            <a:off x="587520" y="6297480"/>
            <a:ext cx="1215720" cy="225720"/>
          </a:xfrm>
          <a:prstGeom prst="rect">
            <a:avLst/>
          </a:prstGeom>
          <a:solidFill>
            <a:srgbClr val="ef1a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2"/>
          <p:cNvSpPr/>
          <p:nvPr/>
        </p:nvSpPr>
        <p:spPr>
          <a:xfrm>
            <a:off x="5659560" y="6303960"/>
            <a:ext cx="1136520" cy="225360"/>
          </a:xfrm>
          <a:prstGeom prst="rect">
            <a:avLst/>
          </a:prstGeom>
          <a:solidFill>
            <a:srgbClr val="8a1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dersh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3"/>
          <p:cNvSpPr/>
          <p:nvPr/>
        </p:nvSpPr>
        <p:spPr>
          <a:xfrm>
            <a:off x="990720" y="4094280"/>
            <a:ext cx="1388880" cy="237960"/>
          </a:xfrm>
          <a:prstGeom prst="rect">
            <a:avLst/>
          </a:prstGeom>
          <a:solidFill>
            <a:srgbClr val="01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olar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4"/>
          <p:cNvSpPr/>
          <p:nvPr/>
        </p:nvSpPr>
        <p:spPr>
          <a:xfrm>
            <a:off x="992160" y="2017800"/>
            <a:ext cx="3067200" cy="239760"/>
          </a:xfrm>
          <a:prstGeom prst="rect">
            <a:avLst/>
          </a:prstGeom>
          <a:solidFill>
            <a:srgbClr val="007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sing phase of the action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5"/>
          <p:cNvSpPr/>
          <p:nvPr/>
        </p:nvSpPr>
        <p:spPr>
          <a:xfrm>
            <a:off x="5641920" y="1812960"/>
            <a:ext cx="3146400" cy="239760"/>
          </a:xfrm>
          <a:prstGeom prst="rect">
            <a:avLst/>
          </a:prstGeom>
          <a:solidFill>
            <a:srgbClr val="01a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lling phase of the action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8"/>
          <p:cNvSpPr/>
          <p:nvPr/>
        </p:nvSpPr>
        <p:spPr>
          <a:xfrm>
            <a:off x="5581800" y="2301840"/>
            <a:ext cx="56988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11-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0320" y="53820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duction of Action Potenti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ite where the action potential is generated, usually the axon hillock, an electrical current depolarizes the upstream region of the axon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otentials travel in only one direction: toward the synaptic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tivated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 behind the zone of depolarization prevent the action potential from traveling back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9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12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8" descr="48_12ActionPotCondxn_3-U"/>
          <p:cNvPicPr/>
          <p:nvPr/>
        </p:nvPicPr>
        <p:blipFill>
          <a:blip r:embed="rId1"/>
          <a:stretch/>
        </p:blipFill>
        <p:spPr>
          <a:xfrm>
            <a:off x="1919160" y="136440"/>
            <a:ext cx="5303880" cy="65851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2924280" y="3306600"/>
            <a:ext cx="204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917800" y="4583160"/>
            <a:ext cx="204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989520" y="6396120"/>
            <a:ext cx="2044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989520" y="5126040"/>
            <a:ext cx="2044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5006880" y="5748480"/>
            <a:ext cx="31140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940200" y="3941640"/>
            <a:ext cx="311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2790720" y="2208240"/>
            <a:ext cx="3114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2513160" y="1257480"/>
            <a:ext cx="9856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967280" y="642960"/>
            <a:ext cx="6159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6039000" y="1171440"/>
            <a:ext cx="1197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6197760" y="2151000"/>
            <a:ext cx="88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630600" y="2957400"/>
            <a:ext cx="9856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4913280" y="4770360"/>
            <a:ext cx="9860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9"/>
          <p:cNvGrpSpPr/>
          <p:nvPr/>
        </p:nvGrpSpPr>
        <p:grpSpPr>
          <a:xfrm>
            <a:off x="1984320" y="3638520"/>
            <a:ext cx="271440" cy="277920"/>
            <a:chOff x="1984320" y="3638520"/>
            <a:chExt cx="271440" cy="277920"/>
          </a:xfrm>
        </p:grpSpPr>
        <p:sp>
          <p:nvSpPr>
            <p:cNvPr id="317" name="Oval 17"/>
            <p:cNvSpPr/>
            <p:nvPr/>
          </p:nvSpPr>
          <p:spPr>
            <a:xfrm>
              <a:off x="1984320" y="3638520"/>
              <a:ext cx="263520" cy="2649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2050920" y="3654360"/>
              <a:ext cx="204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0"/>
          <p:cNvGrpSpPr/>
          <p:nvPr/>
        </p:nvGrpSpPr>
        <p:grpSpPr>
          <a:xfrm>
            <a:off x="1978200" y="1900080"/>
            <a:ext cx="271440" cy="277920"/>
            <a:chOff x="1978200" y="1900080"/>
            <a:chExt cx="271440" cy="277920"/>
          </a:xfrm>
        </p:grpSpPr>
        <p:sp>
          <p:nvSpPr>
            <p:cNvPr id="320" name="Oval 21"/>
            <p:cNvSpPr/>
            <p:nvPr/>
          </p:nvSpPr>
          <p:spPr>
            <a:xfrm>
              <a:off x="1978200" y="1900080"/>
              <a:ext cx="263520" cy="2649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2044800" y="1915920"/>
              <a:ext cx="204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3"/>
          <p:cNvGrpSpPr/>
          <p:nvPr/>
        </p:nvGrpSpPr>
        <p:grpSpPr>
          <a:xfrm>
            <a:off x="1978200" y="5457960"/>
            <a:ext cx="271440" cy="277200"/>
            <a:chOff x="1978200" y="5457960"/>
            <a:chExt cx="271440" cy="277200"/>
          </a:xfrm>
        </p:grpSpPr>
        <p:sp>
          <p:nvSpPr>
            <p:cNvPr id="323" name="Oval 24"/>
            <p:cNvSpPr/>
            <p:nvPr/>
          </p:nvSpPr>
          <p:spPr>
            <a:xfrm>
              <a:off x="1978200" y="5457960"/>
              <a:ext cx="263520" cy="26460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5"/>
            <p:cNvSpPr/>
            <p:nvPr/>
          </p:nvSpPr>
          <p:spPr>
            <a:xfrm>
              <a:off x="2044800" y="5473440"/>
              <a:ext cx="204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Line 26"/>
          <p:cNvSpPr/>
          <p:nvPr/>
        </p:nvSpPr>
        <p:spPr>
          <a:xfrm flipH="1">
            <a:off x="5013000" y="846000"/>
            <a:ext cx="10620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7"/>
          <p:cNvSpPr/>
          <p:nvPr/>
        </p:nvSpPr>
        <p:spPr>
          <a:xfrm>
            <a:off x="6692760" y="16398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4050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 detect external stimuli and internal conditions and transmit information alo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 information is sent to the brain or ganglia,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ur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output leaves the brain or ganglia vi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or neu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trigger muscle or glan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03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9080" y="5335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volutionary Adaptation of Axon 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45760" y="1365120"/>
            <a:ext cx="81406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ed of an action potential increases with the axon’s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tebrates, axons are insulated b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elin she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uses an action potential’s speed to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30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5" descr="48_13_SchwannCells-U"/>
          <p:cNvPicPr/>
          <p:nvPr/>
        </p:nvPicPr>
        <p:blipFill>
          <a:blip r:embed="rId1"/>
          <a:stretch/>
        </p:blipFill>
        <p:spPr>
          <a:xfrm>
            <a:off x="601560" y="212760"/>
            <a:ext cx="7939080" cy="65847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1"/>
          <p:cNvSpPr/>
          <p:nvPr/>
        </p:nvSpPr>
        <p:spPr>
          <a:xfrm>
            <a:off x="871560" y="2697120"/>
            <a:ext cx="6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1871640" y="2809800"/>
            <a:ext cx="1513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elin sh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0"/>
          <p:cNvSpPr/>
          <p:nvPr/>
        </p:nvSpPr>
        <p:spPr>
          <a:xfrm>
            <a:off x="3279600" y="1665360"/>
            <a:ext cx="10098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wan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3808440" y="2592360"/>
            <a:ext cx="1076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6084720" y="328680"/>
            <a:ext cx="1791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of Ran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3"/>
          <p:cNvSpPr/>
          <p:nvPr/>
        </p:nvSpPr>
        <p:spPr>
          <a:xfrm>
            <a:off x="6640560" y="712800"/>
            <a:ext cx="1843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ers of my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4"/>
          <p:cNvSpPr/>
          <p:nvPr/>
        </p:nvSpPr>
        <p:spPr>
          <a:xfrm>
            <a:off x="7896240" y="1084320"/>
            <a:ext cx="600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5"/>
          <p:cNvSpPr/>
          <p:nvPr/>
        </p:nvSpPr>
        <p:spPr>
          <a:xfrm>
            <a:off x="5792760" y="2049480"/>
            <a:ext cx="1036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wan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6"/>
          <p:cNvSpPr/>
          <p:nvPr/>
        </p:nvSpPr>
        <p:spPr>
          <a:xfrm>
            <a:off x="5792760" y="2592360"/>
            <a:ext cx="1498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us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wan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7"/>
          <p:cNvSpPr/>
          <p:nvPr/>
        </p:nvSpPr>
        <p:spPr>
          <a:xfrm>
            <a:off x="7764480" y="6361200"/>
            <a:ext cx="75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8"/>
          <p:cNvSpPr/>
          <p:nvPr/>
        </p:nvSpPr>
        <p:spPr>
          <a:xfrm flipH="1">
            <a:off x="1455840" y="2417760"/>
            <a:ext cx="2635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9"/>
          <p:cNvSpPr/>
          <p:nvPr/>
        </p:nvSpPr>
        <p:spPr>
          <a:xfrm>
            <a:off x="2989440" y="2589120"/>
            <a:ext cx="3960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0"/>
          <p:cNvSpPr/>
          <p:nvPr/>
        </p:nvSpPr>
        <p:spPr>
          <a:xfrm flipH="1">
            <a:off x="3028680" y="2523960"/>
            <a:ext cx="25236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1"/>
          <p:cNvSpPr/>
          <p:nvPr/>
        </p:nvSpPr>
        <p:spPr>
          <a:xfrm>
            <a:off x="3795840" y="2351160"/>
            <a:ext cx="31752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2"/>
          <p:cNvSpPr/>
          <p:nvPr/>
        </p:nvSpPr>
        <p:spPr>
          <a:xfrm flipH="1">
            <a:off x="4113360" y="2259000"/>
            <a:ext cx="3960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3"/>
          <p:cNvSpPr/>
          <p:nvPr/>
        </p:nvSpPr>
        <p:spPr>
          <a:xfrm flipH="1">
            <a:off x="6310080" y="552600"/>
            <a:ext cx="158760" cy="79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4"/>
          <p:cNvSpPr/>
          <p:nvPr/>
        </p:nvSpPr>
        <p:spPr>
          <a:xfrm>
            <a:off x="7540560" y="961920"/>
            <a:ext cx="171360" cy="76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5"/>
          <p:cNvSpPr/>
          <p:nvPr/>
        </p:nvSpPr>
        <p:spPr>
          <a:xfrm>
            <a:off x="7540560" y="961920"/>
            <a:ext cx="382680" cy="82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8161200" y="131904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7"/>
          <p:cNvSpPr/>
          <p:nvPr/>
        </p:nvSpPr>
        <p:spPr>
          <a:xfrm flipV="1">
            <a:off x="6838920" y="2072880"/>
            <a:ext cx="64764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8"/>
          <p:cNvSpPr/>
          <p:nvPr/>
        </p:nvSpPr>
        <p:spPr>
          <a:xfrm flipV="1">
            <a:off x="7037280" y="2457000"/>
            <a:ext cx="595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9"/>
          <p:cNvSpPr/>
          <p:nvPr/>
        </p:nvSpPr>
        <p:spPr>
          <a:xfrm>
            <a:off x="7843680" y="6227640"/>
            <a:ext cx="0" cy="1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0"/>
          <p:cNvSpPr/>
          <p:nvPr/>
        </p:nvSpPr>
        <p:spPr>
          <a:xfrm>
            <a:off x="8386920" y="622764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1"/>
          <p:cNvSpPr/>
          <p:nvPr/>
        </p:nvSpPr>
        <p:spPr>
          <a:xfrm>
            <a:off x="7839000" y="627552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4"/>
          <p:cNvSpPr/>
          <p:nvPr/>
        </p:nvSpPr>
        <p:spPr>
          <a:xfrm rot="15340200">
            <a:off x="3499560" y="2063880"/>
            <a:ext cx="147960" cy="276120"/>
          </a:xfrm>
          <a:custGeom>
            <a:avLst/>
            <a:gdLst>
              <a:gd name="textAreaLeft" fmla="*/ 0 w 147960"/>
              <a:gd name="textAreaRight" fmla="*/ 53280 w 14796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1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0320" y="5968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urons communicate with other cells at synapses via neurotransmitt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911240"/>
            <a:ext cx="815328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ore than 100 neurotransmitters, belonging to five groups: acetylcholine, biogenic amines, amino acids, neuropeptides, and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neurotransmitter may have more than a dozen different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63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533520" y="14047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ynaptic neuron synthesizes and packages the neurotransmitter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tic vesic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synaptic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ion potential causes the release of the neurotransmi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urotransmitter diffuses acros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tic clef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s received by the postsynap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68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533520" y="1383840"/>
            <a:ext cx="777240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lease, the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diffuse out of the synaptic cl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taken up by surrounding cel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degraded by enzy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73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9160" y="5335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tion of Postsynaptic Potenti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830556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ynaptic transmission involves binding of neurotransmitter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gand-gated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ne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stsynap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transmitter binding causes ion channels to open, generating a postsynaptic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79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8" descr="48_15ChemicalSynapse-U"/>
          <p:cNvPicPr/>
          <p:nvPr/>
        </p:nvPicPr>
        <p:blipFill>
          <a:blip r:embed="rId1"/>
          <a:stretch/>
        </p:blipFill>
        <p:spPr>
          <a:xfrm>
            <a:off x="297000" y="441360"/>
            <a:ext cx="8548560" cy="59752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682560" y="453960"/>
            <a:ext cx="134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878280" y="579600"/>
            <a:ext cx="1936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synaptic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1244520" y="1717560"/>
            <a:ext cx="587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371520" y="3728880"/>
            <a:ext cx="1341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3182760" y="1909800"/>
            <a:ext cx="18702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aptic vesic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rotransm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5259240" y="2160720"/>
            <a:ext cx="1460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4411800" y="2771640"/>
            <a:ext cx="971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2138400" y="5656320"/>
            <a:ext cx="1552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-gat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4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4089240" y="5664240"/>
            <a:ext cx="1552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and-gat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330280" y="4948200"/>
            <a:ext cx="508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8250120" y="5907240"/>
            <a:ext cx="414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800" spc="-1" strike="noStrike" baseline="34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7080120" y="4486320"/>
            <a:ext cx="295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 baseline="34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1"/>
          <p:cNvGrpSpPr/>
          <p:nvPr/>
        </p:nvGrpSpPr>
        <p:grpSpPr>
          <a:xfrm>
            <a:off x="2855880" y="5038560"/>
            <a:ext cx="297000" cy="260280"/>
            <a:chOff x="2855880" y="5038560"/>
            <a:chExt cx="297000" cy="260280"/>
          </a:xfrm>
        </p:grpSpPr>
        <p:sp>
          <p:nvSpPr>
            <p:cNvPr id="396" name="Oval 30"/>
            <p:cNvSpPr/>
            <p:nvPr/>
          </p:nvSpPr>
          <p:spPr>
            <a:xfrm>
              <a:off x="2855880" y="5038560"/>
              <a:ext cx="252360" cy="2505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2911320" y="5038560"/>
              <a:ext cx="241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32"/>
          <p:cNvGrpSpPr/>
          <p:nvPr/>
        </p:nvGrpSpPr>
        <p:grpSpPr>
          <a:xfrm>
            <a:off x="785880" y="1976400"/>
            <a:ext cx="296280" cy="260280"/>
            <a:chOff x="785880" y="1976400"/>
            <a:chExt cx="296280" cy="260280"/>
          </a:xfrm>
        </p:grpSpPr>
        <p:sp>
          <p:nvSpPr>
            <p:cNvPr id="399" name="Oval 33"/>
            <p:cNvSpPr/>
            <p:nvPr/>
          </p:nvSpPr>
          <p:spPr>
            <a:xfrm>
              <a:off x="785880" y="1976400"/>
              <a:ext cx="252000" cy="2505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34"/>
            <p:cNvSpPr/>
            <p:nvPr/>
          </p:nvSpPr>
          <p:spPr>
            <a:xfrm>
              <a:off x="840960" y="1976400"/>
              <a:ext cx="241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35"/>
          <p:cNvGrpSpPr/>
          <p:nvPr/>
        </p:nvGrpSpPr>
        <p:grpSpPr>
          <a:xfrm>
            <a:off x="4886280" y="3827520"/>
            <a:ext cx="297000" cy="260280"/>
            <a:chOff x="4886280" y="3827520"/>
            <a:chExt cx="297000" cy="260280"/>
          </a:xfrm>
        </p:grpSpPr>
        <p:sp>
          <p:nvSpPr>
            <p:cNvPr id="402" name="Oval 36"/>
            <p:cNvSpPr/>
            <p:nvPr/>
          </p:nvSpPr>
          <p:spPr>
            <a:xfrm>
              <a:off x="4886280" y="3827520"/>
              <a:ext cx="252360" cy="2505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37"/>
            <p:cNvSpPr/>
            <p:nvPr/>
          </p:nvSpPr>
          <p:spPr>
            <a:xfrm>
              <a:off x="4941720" y="3827520"/>
              <a:ext cx="241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8"/>
          <p:cNvGrpSpPr/>
          <p:nvPr/>
        </p:nvGrpSpPr>
        <p:grpSpPr>
          <a:xfrm>
            <a:off x="7054920" y="5892840"/>
            <a:ext cx="296280" cy="260280"/>
            <a:chOff x="7054920" y="5892840"/>
            <a:chExt cx="296280" cy="260280"/>
          </a:xfrm>
        </p:grpSpPr>
        <p:sp>
          <p:nvSpPr>
            <p:cNvPr id="405" name="Oval 39"/>
            <p:cNvSpPr/>
            <p:nvPr/>
          </p:nvSpPr>
          <p:spPr>
            <a:xfrm>
              <a:off x="7054920" y="5892840"/>
              <a:ext cx="252000" cy="2505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40"/>
            <p:cNvSpPr/>
            <p:nvPr/>
          </p:nvSpPr>
          <p:spPr>
            <a:xfrm>
              <a:off x="7110000" y="5892840"/>
              <a:ext cx="241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41"/>
          <p:cNvSpPr/>
          <p:nvPr/>
        </p:nvSpPr>
        <p:spPr>
          <a:xfrm flipV="1">
            <a:off x="1679400" y="3809880"/>
            <a:ext cx="58284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2"/>
          <p:cNvSpPr/>
          <p:nvPr/>
        </p:nvSpPr>
        <p:spPr>
          <a:xfrm flipH="1">
            <a:off x="3743280" y="2685960"/>
            <a:ext cx="14616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3"/>
          <p:cNvSpPr/>
          <p:nvPr/>
        </p:nvSpPr>
        <p:spPr>
          <a:xfrm>
            <a:off x="4946760" y="3281400"/>
            <a:ext cx="27000" cy="46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44"/>
          <p:cNvSpPr/>
          <p:nvPr/>
        </p:nvSpPr>
        <p:spPr>
          <a:xfrm flipH="1">
            <a:off x="5303520" y="2671920"/>
            <a:ext cx="436680" cy="11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45"/>
          <p:cNvSpPr/>
          <p:nvPr/>
        </p:nvSpPr>
        <p:spPr>
          <a:xfrm>
            <a:off x="3135240" y="4842000"/>
            <a:ext cx="79560" cy="84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6"/>
          <p:cNvSpPr/>
          <p:nvPr/>
        </p:nvSpPr>
        <p:spPr>
          <a:xfrm>
            <a:off x="3716280" y="5464080"/>
            <a:ext cx="3175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7"/>
          <p:cNvSpPr/>
          <p:nvPr/>
        </p:nvSpPr>
        <p:spPr>
          <a:xfrm>
            <a:off x="3994200" y="5397480"/>
            <a:ext cx="3960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1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0" descr="48_03InfoProcessingSum-U"/>
          <p:cNvPicPr/>
          <p:nvPr/>
        </p:nvPicPr>
        <p:blipFill>
          <a:blip r:embed="rId1"/>
          <a:stretch/>
        </p:blipFill>
        <p:spPr>
          <a:xfrm>
            <a:off x="1246320" y="1044720"/>
            <a:ext cx="6651360" cy="4767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712880" y="2324160"/>
            <a:ext cx="87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1666800" y="5081760"/>
            <a:ext cx="87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492360" y="1724040"/>
            <a:ext cx="157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sory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505320" y="3695760"/>
            <a:ext cx="1455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o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5959440" y="2260440"/>
            <a:ext cx="1217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287880" y="5092560"/>
            <a:ext cx="2104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 nerv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5848200" y="5087880"/>
            <a:ext cx="1708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nerv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C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8"/>
          <p:cNvSpPr/>
          <p:nvPr/>
        </p:nvSpPr>
        <p:spPr>
          <a:xfrm rot="5400000">
            <a:off x="4204440" y="3796560"/>
            <a:ext cx="206640" cy="2395440"/>
          </a:xfrm>
          <a:custGeom>
            <a:avLst/>
            <a:gdLst>
              <a:gd name="textAreaLeft" fmla="*/ 0 w 206640"/>
              <a:gd name="textAreaRight" fmla="*/ 74520 w 206640"/>
              <a:gd name="textAreaTop" fmla="*/ 62280 h 2395440"/>
              <a:gd name="textAreaBottom" fmla="*/ 2333160 h 23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9"/>
          <p:cNvSpPr/>
          <p:nvPr/>
        </p:nvSpPr>
        <p:spPr>
          <a:xfrm rot="5400000">
            <a:off x="6592320" y="3881520"/>
            <a:ext cx="219240" cy="2251080"/>
          </a:xfrm>
          <a:custGeom>
            <a:avLst/>
            <a:gdLst>
              <a:gd name="textAreaLeft" fmla="*/ 0 w 219240"/>
              <a:gd name="textAreaRight" fmla="*/ 79200 w 219240"/>
              <a:gd name="textAreaTop" fmla="*/ 58680 h 2251080"/>
              <a:gd name="textAreaBottom" fmla="*/ 2192400 h 22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760" y="52560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uron Structure and Fun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647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a neuron’s organelles are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urons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ighly branched extension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ce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from other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ypically a much longer extension that transmi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to other cells at synap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e-shaped base of an axon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on hil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20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48_04NeuronStructure-U"/>
          <p:cNvPicPr/>
          <p:nvPr/>
        </p:nvPicPr>
        <p:blipFill>
          <a:blip r:embed="rId1"/>
          <a:stretch/>
        </p:blipFill>
        <p:spPr>
          <a:xfrm>
            <a:off x="297000" y="617400"/>
            <a:ext cx="8548560" cy="5621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36600" y="1663560"/>
            <a:ext cx="873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92360" y="612720"/>
            <a:ext cx="107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d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830680" y="932040"/>
            <a:ext cx="965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2830680" y="1473120"/>
            <a:ext cx="13633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 hil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495440" y="2279520"/>
            <a:ext cx="595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330120" y="2822400"/>
            <a:ext cx="1336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1825560" y="3444840"/>
            <a:ext cx="979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3344760" y="3021120"/>
            <a:ext cx="595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23720" y="3973680"/>
            <a:ext cx="93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423720" y="5797440"/>
            <a:ext cx="1878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rotransm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4338720" y="4184640"/>
            <a:ext cx="2036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aptic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4351320" y="5653080"/>
            <a:ext cx="189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synaptic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6759720" y="4383000"/>
            <a:ext cx="1044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 flipH="1">
            <a:off x="1508040" y="754200"/>
            <a:ext cx="104472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 flipH="1">
            <a:off x="2261880" y="754200"/>
            <a:ext cx="2905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1257480" y="1785960"/>
            <a:ext cx="50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9"/>
          <p:cNvSpPr/>
          <p:nvPr/>
        </p:nvSpPr>
        <p:spPr>
          <a:xfrm flipH="1">
            <a:off x="2460600" y="1587600"/>
            <a:ext cx="31752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0"/>
          <p:cNvSpPr/>
          <p:nvPr/>
        </p:nvSpPr>
        <p:spPr>
          <a:xfrm flipH="1">
            <a:off x="1812960" y="2063880"/>
            <a:ext cx="7920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1"/>
          <p:cNvSpPr/>
          <p:nvPr/>
        </p:nvSpPr>
        <p:spPr>
          <a:xfrm>
            <a:off x="2949480" y="314784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2"/>
          <p:cNvSpPr/>
          <p:nvPr/>
        </p:nvSpPr>
        <p:spPr>
          <a:xfrm>
            <a:off x="885960" y="5357880"/>
            <a:ext cx="11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3"/>
          <p:cNvSpPr/>
          <p:nvPr/>
        </p:nvSpPr>
        <p:spPr>
          <a:xfrm flipH="1">
            <a:off x="3690720" y="433872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 flipH="1">
            <a:off x="3901680" y="4338720"/>
            <a:ext cx="39708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 flipV="1">
            <a:off x="7818480" y="4590720"/>
            <a:ext cx="43668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6"/>
          <p:cNvSpPr/>
          <p:nvPr/>
        </p:nvSpPr>
        <p:spPr>
          <a:xfrm>
            <a:off x="7818480" y="4789440"/>
            <a:ext cx="4222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363680"/>
            <a:ext cx="815328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tic termi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one axon passes information across the synapse in the form of chemical messenger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junction between an axon and another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is transmitted from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ynaptic ce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neuron) to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synaptic ce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neuron, muscle, or gland cel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51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760" y="609480"/>
            <a:ext cx="885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 pumps and ion channels establish the resting potential of a neur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99720"/>
            <a:ext cx="8229600" cy="34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ell has a voltage (difference in electrical charge) across its plasma membrane call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brane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ting potenti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embrane potential of a neuron not sending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membrane potential act as signals, transmitting and process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57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 channe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lasma membrane converts chemical potential to electrical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uron at resting potential contains many open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 and fewer open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;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uses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buildup of negative charge within the neuron is the major source of membrane potent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62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48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7" descr="48_T01IonConcentrations-U"/>
          <p:cNvPicPr/>
          <p:nvPr/>
        </p:nvPicPr>
        <p:blipFill>
          <a:blip r:embed="rId1"/>
          <a:stretch/>
        </p:blipFill>
        <p:spPr>
          <a:xfrm>
            <a:off x="297000" y="1011240"/>
            <a:ext cx="85485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8:35:02Z</dcterms:created>
  <dc:creator>Jerome Burg</dc:creator>
  <dc:description/>
  <dc:language>en-US</dc:language>
  <cp:lastModifiedBy>Leanne</cp:lastModifiedBy>
  <dcterms:modified xsi:type="dcterms:W3CDTF">2018-02-19T23:46:38Z</dcterms:modified>
  <cp:revision>59</cp:revision>
  <dc:subject/>
  <dc:title>PowerPoint Presentation</dc:title>
</cp:coreProperties>
</file>